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41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901-BA94-4643-9554-4261AFA9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9A3-98BA-486C-A5B9-C3425FDB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473-6D14-44FF-AD9A-AD92DA27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BD5-391E-43C7-B3C3-A8E52439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DAFE-4B38-46F1-8B49-4212A93D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3B79-4376-4D5C-B0A7-F41FE2B4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577C-02B8-4C16-982E-03AD3B8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3111-79F5-40F4-BA84-374C61AF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B9E2-754F-4D9F-9800-9AB6D9C3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7FE-9389-40D0-90DA-82C83D9C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5A1-8396-4064-9CC7-9A48B9A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34D-4112-4988-859B-98F1AB05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3DFD-C415-4ACC-9BAC-A7DB2026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63E9-FC99-42F4-8406-91E3BFC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C255-8554-40CF-96D9-AFE1488B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DE69-4055-4154-9048-414FCD1E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B9F-9D7F-433C-9A41-4AB1AB48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FD5-FF78-42BB-9BF7-FA03DA4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5DF-8E8A-4F23-9514-EBA67817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961-E493-4964-8F2F-CCEA555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6E9-677D-4100-923D-507323FB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AE7-9DBD-4B35-B95A-B2E72DF7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4A2-2650-4F54-8263-E597EDE5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811-6BBE-4982-B031-5DB12BC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914400"/>
            <a:ext cx="7543800" cy="777240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6290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Version: 1.2 - Jan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veloped by: Dave B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4ACE-4983-4C61-9A28-6729A8023D5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world" descr=""/>
          <p:cNvPicPr/>
          <p:nvPr/>
        </p:nvPicPr>
        <p:blipFill>
          <a:blip r:embed="rId2"/>
          <a:stretch/>
        </p:blipFill>
        <p:spPr>
          <a:xfrm>
            <a:off x="8381880" y="6400800"/>
            <a:ext cx="385920" cy="457200"/>
          </a:xfrm>
          <a:prstGeom prst="rect">
            <a:avLst/>
          </a:prstGeom>
          <a:ln w="0">
            <a:noFill/>
          </a:ln>
        </p:spPr>
      </p:pic>
      <p:pic>
        <p:nvPicPr>
          <p:cNvPr id="10" name="chequer_whiteSES_xpar" descr=""/>
          <p:cNvPicPr/>
          <p:nvPr/>
        </p:nvPicPr>
        <p:blipFill>
          <a:blip r:embed="rId3"/>
          <a:stretch/>
        </p:blipFill>
        <p:spPr>
          <a:xfrm>
            <a:off x="7594560" y="23760"/>
            <a:ext cx="15238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6F04-764F-465B-B7AC-F714FE36BDE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ap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00760" cy="4456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ahoma"/>
              </a:rPr>
              <a:t>Map Reading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ahoma"/>
              </a:rPr>
              <a:t>&amp;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ahoma"/>
              </a:rPr>
              <a:t>Navigation</a:t>
            </a:r>
            <a:endParaRPr b="0" lang="en-US" sz="66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ventional Symbol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Water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Struc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Bounda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9625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Road &amp; Rai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Land featur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legend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7432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pping Datum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ll mapping &amp; coordinate systems are based on a dat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t’s a mathematical surface (overlay) that best fits the shape of the ea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59092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GD66 = Aust Geodetic Datum 1966 </a:t>
            </a: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– Aust region on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GD84 = Updated version of AGD66 </a:t>
            </a:r>
            <a:r>
              <a:rPr b="0" lang="en-AU" sz="1200" spc="-1" strike="noStrike">
                <a:solidFill>
                  <a:srgbClr val="ff0000"/>
                </a:solidFill>
                <a:latin typeface="Tahoma"/>
              </a:rPr>
              <a:t>- USED ON 2</a:t>
            </a:r>
            <a:r>
              <a:rPr b="0" lang="en-AU" sz="1200" spc="-1" strike="noStrike" baseline="30000">
                <a:solidFill>
                  <a:srgbClr val="ff0000"/>
                </a:solidFill>
                <a:latin typeface="Tahoma"/>
              </a:rPr>
              <a:t>ND</a:t>
            </a:r>
            <a:r>
              <a:rPr b="0" lang="en-AU" sz="1200" spc="-1" strike="noStrike">
                <a:solidFill>
                  <a:srgbClr val="ff0000"/>
                </a:solidFill>
                <a:latin typeface="Tahoma"/>
              </a:rPr>
              <a:t> EDITION TOPO MA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DA94 = Geocentric Datum of Austral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- Adopted cause it best fits the earths surface as a who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- USED ON 3</a:t>
            </a:r>
            <a:r>
              <a:rPr b="0" lang="en-AU" sz="1400" spc="-1" strike="noStrike" baseline="30000">
                <a:solidFill>
                  <a:srgbClr val="ff0000"/>
                </a:solidFill>
                <a:latin typeface="Tahoma"/>
              </a:rPr>
              <a:t>RD</a:t>
            </a: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 EDITION TOPO MA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GS84 = Used for Satellite based nav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GS84 &amp; GDA94 for practical purposes are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3733920"/>
            <a:ext cx="2286000" cy="18288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e map for da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nver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213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cale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cale is expressed in 3 method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 word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One cm = One k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11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presentative fraction. (R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:25000   E.g 1cm = 25000cm or 250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RICK - REMOVE LAST 2 ZEROS TO GE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ACTUAL SIZE ON GROUND IN MET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:10,000 to 1:100,000 are small sca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:250,000 to 1:10 million are large sc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11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inear scale - scaled rul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809880"/>
            <a:ext cx="2743200" cy="266724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s the second number increas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tail shown on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decr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scale" descr=""/>
          <p:cNvPicPr/>
          <p:nvPr/>
        </p:nvPicPr>
        <p:blipFill>
          <a:blip r:embed="rId1"/>
          <a:stretch/>
        </p:blipFill>
        <p:spPr>
          <a:xfrm>
            <a:off x="1447920" y="5486400"/>
            <a:ext cx="3919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easuring Distance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Measuring straight line distance (map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Pape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Divide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Rule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74780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724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114800"/>
            <a:ext cx="4343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Measuring distance along a road/track (map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Curved paper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Length of string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measure%20straight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62400" cy="2344680"/>
          </a:xfrm>
          <a:prstGeom prst="rect">
            <a:avLst/>
          </a:prstGeom>
          <a:ln w="0">
            <a:noFill/>
          </a:ln>
        </p:spPr>
      </p:pic>
      <p:pic>
        <p:nvPicPr>
          <p:cNvPr id="141" name="measure%20curve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352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cc9900"/>
                </a:solidFill>
                <a:latin typeface="Tahoma"/>
              </a:rPr>
              <a:t>Map Coordina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2 Typ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ographical coordinates given as latitude and longitu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rid coordinates given as Eastings &amp; North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74320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s degrees, minutes,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ch degrees &amp; minutes is divided into 60 grad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orizontal lines (Parallels of latitu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N or S of equ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Vertical lines (Meridians of longitu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E or W of Greenwi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31</a:t>
            </a:r>
            <a:r>
              <a:rPr b="0" lang="en-AU" sz="20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51’ 0”  E115</a:t>
            </a:r>
            <a:r>
              <a:rPr b="0" lang="en-AU" sz="20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54’ 3”</a:t>
            </a: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0968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9900"/>
                </a:solidFill>
                <a:latin typeface="Tahoma"/>
              </a:rPr>
              <a:t>Latitude &amp; Long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66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617220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ahoma"/>
              </a:rPr>
              <a:t>Note: All Australian Lat &amp; Long coord’s are south &amp; e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lat%20long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462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rid Coordina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d to accurately locate/position objects on a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wo sets of numbered parallel lines (vertical &amp; horizontal) intersecting at right angles to form squares on a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uperimposed over the map to provide a referenc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squares are generally 1km</a:t>
            </a:r>
            <a:r>
              <a:rPr b="0" lang="en-AU" sz="2400" spc="-1" strike="noStrike" baseline="74000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lines are defined as ‘Eastings’ &amp; ‘Northings.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762440" y="1980720"/>
            <a:ext cx="3695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99   00   01   02   0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9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t’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0"/>
            <a:ext cx="2286000" cy="198108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cross first, then 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E before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12952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astings are the vertical lines, numbered left to right.</a:t>
            </a: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590920"/>
            <a:ext cx="3429000" cy="380880"/>
          </a:xfrm>
          <a:prstGeom prst="rightArrow">
            <a:avLst>
              <a:gd name="adj1" fmla="val 50000"/>
              <a:gd name="adj2" fmla="val 225071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505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41148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800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6095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3352680"/>
            <a:ext cx="381240" cy="2895840"/>
          </a:xfrm>
          <a:prstGeom prst="upArrow">
            <a:avLst>
              <a:gd name="adj1" fmla="val 50000"/>
              <a:gd name="adj2" fmla="val 189896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352680"/>
            <a:ext cx="3695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orthings are the horizontal lines numbered bottom to t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541008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ad ‘Eastings’ first, then ‘Northings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11    12    1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809880"/>
            <a:ext cx="746280" cy="596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4 Figure Area Referenc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o-ordinates represent the whole square, not just the single po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.G 1201 - represents 1km</a:t>
            </a:r>
            <a:r>
              <a:rPr b="0" lang="en-AU" sz="2800" spc="-1" strike="noStrike" baseline="74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ind ‘12 easting’ fir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ind ‘01 northing’ sec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895480"/>
            <a:ext cx="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895480"/>
            <a:ext cx="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2895480"/>
            <a:ext cx="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2004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809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4197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292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962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34340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92160" y="3581280"/>
            <a:ext cx="546120" cy="5335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546120" cy="533520"/>
          </a:xfrm>
          <a:prstGeom prst="flowChart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 6 figure reference is  1/100th the size of a 4 figure referenc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E.G 122016 - represents 100m</a:t>
            </a:r>
            <a:r>
              <a:rPr b="0" lang="en-AU" sz="2000" spc="-1" strike="noStrike" baseline="74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62080" y="2286000"/>
            <a:ext cx="3924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12                   1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1 2 3 4 5 6 7 8 9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914400" y="609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6 &amp; 8 Figure Grid Referenc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8195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12408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4100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289548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33526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3809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42670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4724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952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5181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33720" y="2514240"/>
            <a:ext cx="365760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33720" y="2819520"/>
            <a:ext cx="426708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038480"/>
            <a:ext cx="19810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038480"/>
            <a:ext cx="2819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2286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8006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8 Figure Gri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5943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P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lobal Positioning System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(satellite based naviga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atures includ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position on the Earth’s surf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current height - AS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speed and direction of tra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/Long or U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fferent world datu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WGS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eveloped by US Defenc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s 24 satellites orbiting the Earth twice a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600" y="914400"/>
            <a:ext cx="4076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Signal doesn’t penetrate  buildings or thick scrub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Uses triangulation principle to pinpoint location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Minimum of 4 satellites are needed for an accurate 3D positio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Typical accuracy is within 30m - 95% of the time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Interfaces with your PC and mapping software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nsult users guide for operating instruction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resentation  Overview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ypes of maps used within 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to use various ma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ale, Grid references, Ground shape, Gradient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asses &amp; Bearin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ross country navig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ote area preparednes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(supple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Universal Grid Referenc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4953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so known as UTM –             Universal transverse Merc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 grid system is superimposed over the world ma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ch square is uniquely identified. E.G 56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very square is further bisected by another 100 squares. E.G 56hl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o forth until the squares are bisected into 100sq met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6hlh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6hlh12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6hlh1220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grid%20zone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1409760" cy="2476440"/>
          </a:xfrm>
          <a:prstGeom prst="rect">
            <a:avLst/>
          </a:prstGeom>
          <a:ln w="0">
            <a:noFill/>
          </a:ln>
        </p:spPr>
      </p:pic>
      <p:pic>
        <p:nvPicPr>
          <p:cNvPr id="222" name="grid2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819520" cy="2295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423280" y="2857680"/>
            <a:ext cx="247680" cy="284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round Shape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llows the user to visualise the surroundin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Ground shape is referred to as relief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Relief can be shown a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Hach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Hill shading &amp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ntou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7669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contours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352680" cy="1746360"/>
          </a:xfrm>
          <a:prstGeom prst="rect">
            <a:avLst/>
          </a:prstGeom>
          <a:ln w="0">
            <a:noFill/>
          </a:ln>
        </p:spPr>
      </p:pic>
      <p:pic>
        <p:nvPicPr>
          <p:cNvPr id="230" name="hachures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352680" cy="1743120"/>
          </a:xfrm>
          <a:prstGeom prst="rect">
            <a:avLst/>
          </a:prstGeom>
          <a:ln w="0">
            <a:noFill/>
          </a:ln>
        </p:spPr>
      </p:pic>
      <p:pic>
        <p:nvPicPr>
          <p:cNvPr id="231" name="shading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33526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tour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A contour is a line that joins points of equal elev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Contour interval is the vertical distance between contour lin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See legend for contour interv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contour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667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tour Pattern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724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tour lines close together show steep slo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tour lines far apart show gentle slo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tour lines evenly spaced show uniform sl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the spacing decreases when going from high to low, the slope is conv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the spacing increases when going from high to low, the slope is conc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contour%20lines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5053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Land Featur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4000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presentation of he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ench mark, trig station, spot he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hysical fe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Kno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add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pur, ri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Valley, go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scarp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-entr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late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ridge%20spur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176832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saddle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242" name="land%20features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4419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radien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 method of expressing ground slop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radient = </a:t>
            </a:r>
            <a:r>
              <a:rPr b="0" lang="en-AU" sz="2200" spc="-1" strike="noStrike" u="sng">
                <a:solidFill>
                  <a:srgbClr val="ffffff"/>
                </a:solidFill>
                <a:uFillTx/>
                <a:latin typeface="Tahoma"/>
              </a:rPr>
              <a:t>Contour interval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(height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AU" sz="3200" spc="-1" strike="noStrike" baseline="42000">
                <a:solidFill>
                  <a:srgbClr val="ffffff"/>
                </a:solidFill>
                <a:latin typeface="Tahoma"/>
              </a:rPr>
              <a:t>Horizontal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86000"/>
            <a:ext cx="632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:10 = 1 unit up or down / 10 units acro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:1 is a 45</a:t>
            </a:r>
            <a:r>
              <a:rPr b="0" lang="en-AU" sz="2000" spc="-1" strike="noStrike" baseline="74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implify to smallest fraction = </a:t>
            </a:r>
            <a:r>
              <a:rPr b="0" lang="en-AU" sz="2000" spc="-1" strike="noStrike" u="sng">
                <a:solidFill>
                  <a:srgbClr val="ffffff"/>
                </a:solidFill>
                <a:uFillTx/>
                <a:latin typeface="Tahoma"/>
              </a:rPr>
              <a:t>2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=  </a:t>
            </a:r>
            <a:r>
              <a:rPr b="0" lang="en-AU" sz="20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=  1: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AU" sz="2400" spc="-1" strike="noStrike" baseline="46000">
                <a:solidFill>
                  <a:srgbClr val="ffffff"/>
                </a:solidFill>
                <a:latin typeface="Tahoma"/>
              </a:rPr>
              <a:t>120      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gradient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58672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Intervisibility</a:t>
            </a:r>
            <a:r>
              <a:rPr b="0" lang="en-AU" sz="2400" spc="-1" strike="noStrike">
                <a:solidFill>
                  <a:srgbClr val="cc9900"/>
                </a:solidFill>
                <a:latin typeface="Tahoma"/>
              </a:rPr>
              <a:t> – Line of sight</a:t>
            </a:r>
            <a:endParaRPr b="0" lang="en-US" sz="2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361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d to determine the location of radio repeaters (particularly VHF) &amp; fire lookout t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695600" y="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line%20of%20sight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5943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Map Enlarging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p enlarging produces a portion of map at a larger scale. (see learners gu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enlarge" descr=""/>
          <p:cNvPicPr/>
          <p:nvPr/>
        </p:nvPicPr>
        <p:blipFill>
          <a:blip r:embed="rId1"/>
          <a:stretch/>
        </p:blipFill>
        <p:spPr>
          <a:xfrm>
            <a:off x="914400" y="2293920"/>
            <a:ext cx="7848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mpas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egree system -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360</a:t>
            </a:r>
            <a:r>
              <a:rPr b="0" lang="en-AU" sz="20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circ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orth = 0/36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outh = 18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ast   = 9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est  = 27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rdinal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32 in total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nly 16 are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74796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ompass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08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earing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The p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rpose of a bearing is to give an accurate indication of direction from one point to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cc9900"/>
                </a:solidFill>
                <a:latin typeface="Tahoma"/>
              </a:rPr>
              <a:t>Simply, a bearing is an ang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is the angle measured clockwise from a fixed zero line, generally no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76560" y="9144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rid b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sed when bearings are taken from or to the map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gnetic b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sed in conjunction with a compass. This type of bearing is for field operat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earings are measured using a protractor or comp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im of Map Reading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navigate &amp; recognise features on the ground &amp; ma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picture the ground even though it hasn’t been seen, an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understand and pass information quick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termine and plan a safe rou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earings - Cont’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895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75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5320" y="99072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a = 37                  0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b = 75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B = 31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AU" sz="1800" spc="-1" strike="noStrike">
                <a:solidFill>
                  <a:srgbClr val="ffffff"/>
                </a:solidFill>
                <a:latin typeface="Tahoma"/>
              </a:rPr>
              <a:t>if ‘A’ is specified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c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= 304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48520" y="1828440"/>
            <a:ext cx="76176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248520" y="2590920"/>
            <a:ext cx="167616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86080" y="1802880"/>
            <a:ext cx="0" cy="1752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1280" y="2285640"/>
            <a:ext cx="851040" cy="1244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4495320"/>
            <a:ext cx="0" cy="1752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5943600"/>
            <a:ext cx="1066680" cy="279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48520" y="137124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086600" y="441936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095880" y="4952880"/>
            <a:ext cx="9907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1371600"/>
            <a:ext cx="2286000" cy="2057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91320" y="1371240"/>
            <a:ext cx="228600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5562720"/>
            <a:ext cx="380880" cy="838080"/>
          </a:xfrm>
          <a:custGeom>
            <a:avLst/>
            <a:gdLst>
              <a:gd name="textAreaLeft" fmla="*/ 50760 w 380880"/>
              <a:gd name="textAreaRight" fmla="*/ 330120 w 380880"/>
              <a:gd name="textAreaTop" fmla="*/ 170640 h 838080"/>
              <a:gd name="textAreaBottom" fmla="*/ 5223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3" stAng="-5400000" swAng="5400000"/>
                <a:lnTo>
                  <a:pt x="21600" y="9059"/>
                </a:lnTo>
                <a:arcTo wR="21600" hR="8803" stAng="0" swAng="3140653"/>
                <a:lnTo>
                  <a:pt x="6480" y="21195"/>
                </a:lnTo>
                <a:lnTo>
                  <a:pt x="0" y="17734"/>
                </a:lnTo>
                <a:lnTo>
                  <a:pt x="6480" y="13463"/>
                </a:lnTo>
                <a:lnTo>
                  <a:pt x="6480" y="17201"/>
                </a:lnTo>
                <a:arcTo wR="21600" hR="8803" stAng="3140653" swAng="-3120279"/>
                <a:lnTo>
                  <a:pt x="21598" y="8931"/>
                </a:lnTo>
                <a:arcTo wR="21600" hR="8803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803" stAng="-5400000" swAng="5400000"/>
                <a:lnTo>
                  <a:pt x="21600" y="9059"/>
                </a:lnTo>
                <a:arcTo wR="21600" hR="8803" stAng="0" swAng="-20374"/>
                <a:lnTo>
                  <a:pt x="21598" y="8931"/>
                </a:lnTo>
                <a:arcTo wR="21600" hR="8803" stAng="-20374" swAng="-5379626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North Point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rue north - T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Earth spins on this axi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agnetic north - 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mpass needle points to magnetic nor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Its a location in the far north of Cana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north – 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he vertical lines overlayed on a map point to grid north – (easting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ot exactly true nor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Difference between TN &amp; GN is called converge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Tahoma"/>
              </a:rPr>
              <a:t>In map reading we only use GN &amp; M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gnetic Variation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difference between ‘grid north’ &amp; ‘magnetic north’ is called magnetic vari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agnetic north pole is not fixed, it moves contin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4343400"/>
            <a:ext cx="3657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asterly &amp; westerly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heck map for accuracy of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degrees%20coords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4191120" cy="3505320"/>
          </a:xfrm>
          <a:prstGeom prst="rect">
            <a:avLst/>
          </a:prstGeom>
          <a:ln w="0">
            <a:noFill/>
          </a:ln>
        </p:spPr>
      </p:pic>
      <p:pic>
        <p:nvPicPr>
          <p:cNvPr id="284" name="variation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2057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verting Bearing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ag’ bearings must be converted to Grid bearings for plot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Bearings taken from map must be converted to Mag’ for compass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o convert bearings – simply add or subtract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ffff"/>
                </a:solidFill>
                <a:uFillTx/>
                <a:latin typeface="Tahoma"/>
              </a:rPr>
              <a:t>GMS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= Grid to Magnetic – Subtract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GrandMa Su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ffff"/>
                </a:solidFill>
                <a:uFillTx/>
                <a:latin typeface="Tahoma"/>
              </a:rPr>
              <a:t>MGA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= Magnetic to Grid – Add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My Green App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Grid bearings are always larger than a magnetic bearing with an easterly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ack Bearing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88" name="backbear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483080" cy="2346480"/>
          </a:xfrm>
          <a:prstGeom prst="rect">
            <a:avLst/>
          </a:prstGeom>
          <a:ln w="0">
            <a:noFill/>
          </a:ln>
        </p:spPr>
      </p:pic>
      <p:pic>
        <p:nvPicPr>
          <p:cNvPr id="289" name="back180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483080" cy="2457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back bearing is the  bearing immediately opposite the current b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dd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if bearing is smaller than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38098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ubtract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if bearing is larger than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versing com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27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mpass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510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ny types &amp;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rismatic, reflective &amp; Sil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sist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Magnetised need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 non ferrous or plastic bo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 graduated 360</a:t>
            </a:r>
            <a:r>
              <a:rPr b="0" lang="en-AU" sz="26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circle 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ometimes an aiming poi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compass1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1460520" cy="1447560"/>
          </a:xfrm>
          <a:prstGeom prst="rect">
            <a:avLst/>
          </a:prstGeom>
          <a:ln w="0">
            <a:noFill/>
          </a:ln>
        </p:spPr>
      </p:pic>
      <p:pic>
        <p:nvPicPr>
          <p:cNvPr id="296" name="compass3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1460520" cy="1371600"/>
          </a:xfrm>
          <a:prstGeom prst="rect">
            <a:avLst/>
          </a:prstGeom>
          <a:ln w="0">
            <a:noFill/>
          </a:ln>
        </p:spPr>
      </p:pic>
      <p:pic>
        <p:nvPicPr>
          <p:cNvPr id="297" name="compass2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14605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arts of a Compas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ilva Compa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81480" y="1219320"/>
            <a:ext cx="331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rismatic Compa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compass9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302" name="compass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665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Taking a Grid Bearing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ing a compass &amp;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lace edge of compass along intended bea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irection arrow points the way you want to tra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urn housing so meridian lines are parallel to easting 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 grid bearing where housing and index inters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ote: This bearing must be converted to mag’ bearing if intended for field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bearing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248520" y="4343400"/>
            <a:ext cx="2361960" cy="190008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gnore the needle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ing compass as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tra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gnetic Bearing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Setting a Magnetic b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ld compass flat in pal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t bearing on compass by rotating hou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urn yourself till 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needle lines up with no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ow walk in direction of directional ar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Taking a Magnetic b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ld compass with directional arrow pointing at intended object/dir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tate housing till north aligns with 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ar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 bearing where index lines inters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629400" y="4495680"/>
            <a:ext cx="2209680" cy="18288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desk you’re sitting 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s local magnetic at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gnetic Bearings con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581280"/>
            <a:ext cx="6705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ompass Err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Individual compas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Local magnetic attraction due to steel/iron o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ransmission lines     = 80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ar                          = 60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ire fence                = 10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Pick, Axe or shovel     = 3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ompass back bearin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Face the opposite direction, turn compass around &amp; walk with directional arrow pointing towards yo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Or use white needle as directional indicat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7766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~pd1B_Pic140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591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efinition of a Map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Its a scaled representation of the earths surface shown on a plane surfa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It shows natural and/or artificial featu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Used as a form of communication, used to convey land featu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0000"/>
                </a:solidFill>
                <a:latin typeface="Tahoma"/>
              </a:rPr>
              <a:t>However, its only accurate at time of aerial photo or field revisi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Cross-country Navigation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provised direction fi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y shadow stick &amp;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y the sta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y using a watch &amp;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ushman's method – kangaro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G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skygge1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2286000" cy="1693800"/>
          </a:xfrm>
          <a:prstGeom prst="rect">
            <a:avLst/>
          </a:prstGeom>
          <a:ln w="0">
            <a:noFill/>
          </a:ln>
        </p:spPr>
      </p:pic>
      <p:pic>
        <p:nvPicPr>
          <p:cNvPr id="319" name="watch" descr=""/>
          <p:cNvPicPr/>
          <p:nvPr/>
        </p:nvPicPr>
        <p:blipFill>
          <a:blip r:embed="rId2"/>
          <a:stretch/>
        </p:blipFill>
        <p:spPr>
          <a:xfrm>
            <a:off x="6553080" y="2362320"/>
            <a:ext cx="2183040" cy="15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4800600" y="4267080"/>
          <a:ext cx="198108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267080"/>
                    <a:ext cx="19810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33520" y="1447920"/>
            <a:ext cx="5790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actors influencing C-C nav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Weather, terrain, vegetation,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Team composition, fatig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Access restrictions, boundaries, route 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Cross Country Navigation cont…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redicted walking tim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km/hr easy go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3km/hr easy scramb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.5km/hr rough country, snow, sand or thick bu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dd 1hr for every 500m up or 1000m 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very 5 hrs allow an 1hr for fatig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10666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Distance travelled - pacing &amp; t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verage step is 75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pprox’ 650-660 right steps = 1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31240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Judging distance -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See Learners Guide for object sizing P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Unit of measure (Good up to 400m – Sports fields or swimming poo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Appearance (Takes a lot of practice – compare with surroundin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racketing (Greater than 200m, Less than 600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lanning…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ute planning – Map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Essential, you must have a good plan before setting o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Have an alternate plan &amp; ro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reak route down into individual leg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Each leg should terminate at recognisable objects or within an h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Grain of coun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Rid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Riv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Dense scr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route" descr=""/>
          <p:cNvPicPr/>
          <p:nvPr/>
        </p:nvPicPr>
        <p:blipFill>
          <a:blip r:embed="rId1"/>
          <a:stretch/>
        </p:blipFill>
        <p:spPr>
          <a:xfrm>
            <a:off x="3657600" y="2600280"/>
            <a:ext cx="5486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Map Orientation…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44193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 simple way to read a map is to orientate the map to its surrounding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sing land feat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ay the map on the ground. Rotate map till features on ground align with those on ma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sing a compass (gri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termine &amp; set mag’ variation on comp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ign compass edge with ‘N-S’ meridian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otate map &amp; compass till compass needle is alig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23920" y="243792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sing a compass (mag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raw mag’ variation lines on m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et compass to mag’ ‘N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ign compass edge with drawn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otate map &amp; compass till compass needle is alig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l compass bearings can now be taken directly from the m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3" name="mag%20variation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9625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ateral Drif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391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when you drift away from the given destination, but you remain on the same bear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ass alone, is not enough to eliminate  lateral drif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ot a feature (tree, knoll) on the set bearing, walk to that feature, then reassess. Continue  until destination is reac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drift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248520" cy="2819520"/>
          </a:xfrm>
          <a:prstGeom prst="rect">
            <a:avLst/>
          </a:prstGeom>
          <a:ln w="0">
            <a:noFill/>
          </a:ln>
        </p:spPr>
      </p:pic>
      <p:pic>
        <p:nvPicPr>
          <p:cNvPr id="337" name="point2" descr=""/>
          <p:cNvPicPr/>
          <p:nvPr/>
        </p:nvPicPr>
        <p:blipFill>
          <a:blip r:embed="rId2"/>
          <a:stretch/>
        </p:blipFill>
        <p:spPr>
          <a:xfrm>
            <a:off x="7238880" y="2209680"/>
            <a:ext cx="19051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Avoiding an Obstac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339" name="obstacle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715000" cy="32767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sed to traverse around cliffs, knolls, swamps et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acing at 90</a:t>
            </a:r>
            <a:r>
              <a:rPr b="0" lang="en-AU" sz="2600" spc="-1" strike="noStrike" baseline="72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nterva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Leg 1 and 3 need to be of equal dista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hecking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ttack poi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d when navigating to less identifiable fe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sier to find an attack point than a specific re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 well defined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ts you close to your given dest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. Road junctions, man made structures, prominent knolls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2895120"/>
            <a:ext cx="400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iming off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ming left or right of given bearing or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d so you don’t overshoot the ma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. Creek junction - aim for creek, then walk up or downstream till you hit the creek j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85800"/>
            <a:ext cx="4000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atching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sily identified features. Eg fences, creeks ro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hould prevent you from walking too f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57150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spect of slope &amp; Hand rai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osition Fixing – Resection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d when you’re unable to fix your position from the ground to that on the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ind 2 or 3 prominent feat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ake magnetic bearing of features &amp; convert to grid bea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hange to back bearing &amp; plot all bearings on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our position is where the back bearings intersect.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resection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172200" y="4267080"/>
            <a:ext cx="2819520" cy="22050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’re never lost, j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eographical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isplaced</a:t>
            </a: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Action If Lost!!!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Don’t </a:t>
            </a:r>
            <a:r>
              <a:rPr b="1" lang="en-AU" sz="2600" spc="-1" strike="noStrike">
                <a:solidFill>
                  <a:srgbClr val="ff0000"/>
                </a:solidFill>
                <a:latin typeface="Tahoma"/>
              </a:rPr>
              <a:t>PANIC</a:t>
            </a:r>
            <a:r>
              <a:rPr b="0" lang="en-AU" sz="26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remain cal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Re-think route &amp; confirm ground cover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osition fixing -rese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dentify a bearing (track junction) &amp; head for safe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nable to identify your position, set up camp &amp; wait for rescu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nitiate any distress bea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Remote Area Section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2200" spc="-1" strike="noStrike">
                <a:solidFill>
                  <a:srgbClr val="ff0000"/>
                </a:solidFill>
                <a:latin typeface="Tahoma"/>
              </a:rPr>
              <a:t>This section is not pitched at any level of expertise. Everyone should be well prepared before entering the bus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6 P’s = prior preparation and planning prevents poor perfor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earn the area before depa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ave a navigational route plan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roup detai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oute detai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nded camp lo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TD and 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ypes of Maps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eet dire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thematic%20map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1828800" cy="1568160"/>
          </a:xfrm>
          <a:prstGeom prst="rect">
            <a:avLst/>
          </a:prstGeom>
          <a:ln w="0">
            <a:noFill/>
          </a:ln>
        </p:spPr>
      </p:pic>
      <p:pic>
        <p:nvPicPr>
          <p:cNvPr id="101" name="topo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scientific" descr=""/>
          <p:cNvPicPr/>
          <p:nvPr/>
        </p:nvPicPr>
        <p:blipFill>
          <a:blip r:embed="rId3"/>
          <a:stretch/>
        </p:blipFill>
        <p:spPr>
          <a:xfrm>
            <a:off x="6858000" y="4343400"/>
            <a:ext cx="1838160" cy="1606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29718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pographic ma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mat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267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cientif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ubd%20StreetDircitylink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182880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50292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Mud Ma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Basic Requirements for Survival…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inimum 2ltr/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s there water in the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arrying capa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hel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ent or hutch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round sh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mprovis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. Caves, overhangs, huts, she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62080" y="1371240"/>
            <a:ext cx="400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Warmt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ry clot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rm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tches/ligh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trategies/procedures to cope with the co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nough food/nouris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unting &amp; gathering f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atio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ooking/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Navigational Tips - (</a:t>
            </a:r>
            <a:r>
              <a:rPr b="0" lang="en-AU" sz="3600" spc="-1" strike="noStrike">
                <a:solidFill>
                  <a:srgbClr val="cc9900"/>
                </a:solidFill>
                <a:latin typeface="Tahoma"/>
              </a:rPr>
              <a:t>Generalised)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parse &amp; scratchy vegetation along ridges &amp; spu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hicker vegetation through gullies &amp; valley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outh facing terrain is thicker veget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lower moving through creek be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ight navigation - use of lighting and the mo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Pack light, pack righ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You’re only as fast as your slowest team memb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ntinue relating features from the ground to the ma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arry safety equipment &amp; have knowledge of remote first a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Know your limitations - be mentally &amp; physically prepa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ack Checklis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loth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Boots &amp; sock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nderwear &amp; therm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rousers/shor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hir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Jumper/jack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Headgear &amp; glov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et weather jacket &amp; pa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ait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ersonal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Backpac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leeping ba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leeping m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oiletr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oilet pap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ater bottle &amp; w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Food &amp; utensi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Insect repellent/sunscre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Light source  batter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ack Checklis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00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Emergency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Maps &amp; map ca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atc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mpas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hist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Fire start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Knif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ote book &amp; p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Group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ent or hutchi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round she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tove &amp; fu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ater fil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Plastic sho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rda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472428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cc9900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treet Director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3695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Key m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uburb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ubd%20hometopbar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358480" cy="83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2440" y="2819520"/>
            <a:ext cx="3695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cility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eet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ap &amp;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Topographic Map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3" name="map1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733920" cy="3230280"/>
          </a:xfrm>
          <a:prstGeom prst="rect">
            <a:avLst/>
          </a:prstGeom>
          <a:ln w="0">
            <a:noFill/>
          </a:ln>
        </p:spPr>
      </p:pic>
      <p:pic>
        <p:nvPicPr>
          <p:cNvPr id="114" name="map5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5049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p Care &amp; Folding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3657600"/>
            <a:ext cx="2819520" cy="26892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on’t fully open maps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wind or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veh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Deterioration - dirt, grime, pens/markers &amp; unnecessary opening &amp; fold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160" indent="-560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Protecting the map - map case, clear contact, plastic bag or map board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160" indent="-560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Map fold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old in half (detail facing outwar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certina into equal s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old in half (title show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3480" indent="0"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arginal Information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inted around the margin of the map to aid in using the map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g.. Title, scale, type, legend of symbols, edition &amp; sheet number, adjoining maps, contour interval, magnetic variation, grid reference block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marginal1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1733400" cy="4876920"/>
          </a:xfrm>
          <a:prstGeom prst="rect">
            <a:avLst/>
          </a:prstGeom>
          <a:ln w="0">
            <a:noFill/>
          </a:ln>
        </p:spPr>
      </p:pic>
      <p:pic>
        <p:nvPicPr>
          <p:cNvPr id="121" name="marginal2" descr=""/>
          <p:cNvPicPr/>
          <p:nvPr/>
        </p:nvPicPr>
        <p:blipFill>
          <a:blip r:embed="rId2"/>
          <a:stretch/>
        </p:blipFill>
        <p:spPr>
          <a:xfrm>
            <a:off x="7086600" y="1295280"/>
            <a:ext cx="1752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1:40:10Z</dcterms:created>
  <dc:creator>dvb</dc:creator>
  <dc:description/>
  <dc:language>en-US</dc:language>
  <cp:lastModifiedBy>DVB</cp:lastModifiedBy>
  <cp:lastPrinted>2002-03-06T21:27:34Z</cp:lastPrinted>
  <dcterms:modified xsi:type="dcterms:W3CDTF">2005-02-08T01:51:54Z</dcterms:modified>
  <cp:revision>94</cp:revision>
  <dc:subject/>
  <dc:title>MAP READING  &amp;  NAVIGATION</dc:title>
</cp:coreProperties>
</file>